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47F-B3D4-4688-BD44-BB667A90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975-EC14-4426-8371-89D7C9B4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C09-1B02-4A2F-AEA5-A70190D8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A66-5116-4E40-828F-6D295CC0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6D2-1DB1-4DED-A152-9936C365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858-8C78-4A21-A67B-9BFF1AE4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FC3-0ADC-495F-8C24-D2AC41A7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389-C65F-4E4C-ABC7-91839CE3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19E-AEBF-4FAD-A75B-D96BD159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530-BB08-435E-9660-BC824001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5BD-7FA0-41B3-AE0C-C56796F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EDA-F52C-4629-8E6F-BC20261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A433-1259-4EFC-932A-A106AB55D1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ett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Vernon Scann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gi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p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ot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illh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yre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army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desire to hurt or annoy some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lmed, comfo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ol with curved blade for cutting vege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ar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eral bonfire for burning a dead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rect comparison between two objects without using ‘like’ or ‘a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7T10:55:36Z</dcterms:modified>
  <cp:revision>19</cp:revision>
  <dc:subject/>
  <dc:title>La Belle Dame Sans Merci</dc:title>
</cp:coreProperties>
</file>